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77F-8491-4D23-B787-0E62A527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C97-AAD8-476D-87DC-0DA4A34E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A09-3E9C-4F05-856B-72D0A1A1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647-5154-468A-9982-9786BA67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6E4-66A1-4FE1-94A1-1236859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C04-A371-4E37-A00B-6528C2C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D02-68D0-49AF-9ED7-C0216039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E17-A60C-4915-9FBF-EE4EC5F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B97-E9C8-42B1-A74E-E33797D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E59-FEAD-40FA-A802-D1B5D4F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B46-34E4-437D-97C4-534B6FA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DA4-DF1F-4380-B736-56EDF8B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3DCA-5F66-4216-867F-16868DCA6011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лаген за хируршке процедуре у стоматологиј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бија се из Ахилове тетиве говеч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нђераста, еластична струк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ни се на рану која крвари, и континуирано притиска 2 до 5 мину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да се уклони или остави на месту аплик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тифибриноли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1714680"/>
            <a:ext cx="8572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операције или вађења зуба, када се хемостаза успостави, долази до активирања процеса фибринолизе. Фибринолиза нагриза коагулуме, и после неколико дана може изазвати накнадно крваре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би се то спречило, пацијентима се после операције даје да испирају уста раствором који садрж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фибриноли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5% транексамична киселина, 4 пута дневно, 7 дана, или 25% епсилон-аминокапронска киселина, 4 пута дневно, 7 д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аква локална примена антифибринолитика је врло ефикасна, јер смањује учесталост постоперативних крвављења са 40% на само 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ски леп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40480" y="1785960"/>
            <a:ext cx="855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из две компон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+ фактор 13 и тромбина +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дођу у контакт, настаје угру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је добијен из плазме давал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мбин је говеђе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и ризик од трансмисије инфекције хепатитисом Б, Ц или ХИВ-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Транексамична кисел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5% - тна течност за испирање у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ористи се за спречавање крварења после операција у усној дупљи код особа које су на антикоагуланс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ацијенти на хроничној оралној антикоагулантној терапији и екстракција зу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600200"/>
            <a:ext cx="90010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ије потребно прекидати примену оралних антикоагулана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остаза се постиже постављањем желатинског сунђера и сутурама свилом преко сунђ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честалост постоперативног крварења је од 5 до 15%, и не зависи од висине ИНР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8720" y="5643720"/>
            <a:ext cx="824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. Dental extractions in patients maintained on oral anticoagulant therap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INR value with occurrence of postoperative bleeding. Int J Oral Maxillofac Surg. 2001 ;30(6):518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, Hashomer T. Dental extractions in patients maintained on continued 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oagulant: comparison of local hemostatic moda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Surg Oral Med Oral Pathol Oral Radiol Endod. 1999 Aug;88(2):137-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АСТЕ ЗА ЗУ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7120" y="1444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сте за зубе садрже сапун или детерџент уз прашак који је довољно тврд и храпавих честица да делује абразивно на површину зуба (таман толико да са ње скине прљавштину,а да не оштети глеђ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бразивни прашкови могу бити тројаки, у погледу величине и храпавости честиц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уб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тврдим и великим честиц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2) политирајућ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ање тврдим и мањим честицама;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3) прашкови за чишће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еканим и малим честицама, који служе само за најблаже чишћење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Најчешће коришћени абразив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Вулканска праш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астоји се углавном од алуминијума, калијума и натријума; може бити самлевена у различитим величинама честиц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орун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инерал алуминијум оксид, који се самлевен у прашак користи као абрази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Чист алумијум окси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левен у праша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ре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калцијум-карбонат припремљен методом преципитације; спада у групу политирајућих абразив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алај 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ром-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ес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цирконијум силик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Хумекта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264312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умектан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сустанце у пастама за зубе које спречавају њихово исушивање: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глицери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орбитол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пилен-гли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етерџе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57160" y="26906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етерџена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е у пастама за зубе налази најчешће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натријум лаурил сулфат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 омогућава скидање плака са зуба и олакшава клизање четкице преко зуб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атријум лаурил сулф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стали састојци пасте за зу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14240" y="230112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би сви састојци пасте за зубе били хомогено измешани, додаје с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нституенс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везујућ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редство), који је најчешће карбокси метил целул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се у пасте додају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слађивачи: нпр. сахарин)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тисепти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натријум флуорид, стронцијум хлорид, уреа, амонијум фосфат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редств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42960" y="2571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редства за испирање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 усне дупљ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заправо раствори којима се усна дупља испира, после чега се испљу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исте се ради превенције каријеса и за лечење гингивитиса и стоматитис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астојци раствор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0901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10-20%, ради дезинфекције, раствар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угих супстанци и корекциј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уме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глицерол и сорбитол (5-20%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ећавају вискозност препарата и дају 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аткаст у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урфа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олиоксиетилен сорбитол, натрију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аурил сулфат) омогућавају да препарат пен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ида прљавшт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нтол, пеперминт, цимет, мети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лицила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Лекови који се додају у растворе за испирањ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14200" y="1765800"/>
            <a:ext cx="8929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хистаминик + кортикостероид + антибиот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урин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илокарп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недовољног лучења пљув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фотерицин Б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кандидија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анексамична кисел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спречавање крваре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лорхексидин глуконат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превенцију 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ксет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бог антибактеријског деј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И ЗА ЛОКАЛНУ ХЕМОСТАЗУ У УСНОЈ ДУПЉ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1500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 тешких екстракција зуба или обимнијих хируршких интервенција у усној дупљи оперативно место може доста да крва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варење се може зауставити применом на место интервенције ресорптивног коагулантног средства: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оксидисана регенерисана целулоз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сунђер од желатин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колаге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интетски или микрокристални или свињски)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н-бутил-2-цијано-акрилатни лепак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фибрински лепа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астоји се углавном од тромбина и фибриноген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се ови хемостатици поставе у рану, она се може преко ушити ресорптивним концем ; пацијенту затим треба дати смотуљак влажне газе да преко њега загризе, а да газа притисне на рану – после око 10 минута притиска крварење обично ст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Желатински сунђ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25080" y="1500120"/>
            <a:ext cx="84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1 х 1 х 1 центи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 се апсорбује ако остане на месту примене после неколико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изазив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 неутралан 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бује крв до 50 пута веће тежине од сопств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рименити сув или натопљен физиолошки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сече и облик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изводи се од колагена из коже сви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анизам дејства желатинског сунђ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цити који долазе у контакт са сунђером бивају оштећени и ослобађају тромбопласт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пластин интерагује са протромбином и калцијумом и настаје тром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 наведеног, желатински сунђер даје механичку основу за настанак угр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-бутил-цијаноакрил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пстанца која се у присуству слабе базе (нпр. мало воде) полимеризује кроз егзотермну реакциј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еризација наступа за 10 секун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бог полимеризације слепљује ивице ткива једне за дру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се применити код периодонталних операција или за хемостазу после вађења зу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ксидисана целуло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4240" y="24130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Оксидисана целулоза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добија излагањем обичне целулозе неком оксидационом средству (нпр. водоник пероксид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оно средство доводи до стварања алдехидних и кето група у целулози, тако да она лакше активира систем коагулације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55200" y="2357280"/>
            <a:ext cx="216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ha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amp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еханизам дејства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е примени на површину која крвари, уз краткотрајан притисак зачепи капиларе и активира процес коагул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есорбује се после 7 д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њује се сува или натопљена са физиолошким раств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16:20:16Z</dcterms:modified>
  <cp:revision>256</cp:revision>
  <dc:subject/>
  <dc:title>Slide 1</dc:title>
</cp:coreProperties>
</file>